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96DA-1367-4099-B393-F3C9E5CC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1997-9C83-4086-9BDB-A8796FF7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4E20-80B1-47AE-835B-D68FE418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2F10-0C0E-4963-90BC-DE7E3275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D886-335E-444D-9EC3-E390574C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837C-3103-4BF1-A9B2-4CBA508D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B5F9-E6EE-4FC1-85D4-D943C453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891F-07EF-4159-89B3-E982388D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AFAD-7306-476A-90C8-E7227612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3574-79A0-4275-BB93-92C851F8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C2AF-2018-433E-921C-CAC5C438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8237-BDAE-4874-968E-D1A6572D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BF27-C21F-485B-9427-4705A6DB5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2.5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ing Equations by Adding or Subtra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raction Property of E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590920"/>
            <a:ext cx="2514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      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  =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3352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666880"/>
            <a:ext cx="358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You can subtract the same thing from both sides of an equation and still have a true sta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4197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 Property of E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5181480"/>
            <a:ext cx="3733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 =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4      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 =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5943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510552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You can add the same number to both sides of an equation and still have a true sta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Objective 1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8080" y="5335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erse operations are operations that 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cancel (undo)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2133720"/>
            <a:ext cx="358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ve  Y + 5 =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- 5    -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      =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32767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29718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Subtraction property of equa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pposite oper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3809880"/>
            <a:ext cx="3200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ve     C – 23   = -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+ 23    +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          =    -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457200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Addition property of equa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Opposite oper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84360" y="338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990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66680" y="1676520"/>
            <a:ext cx="4648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0 + B = 3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-250       - 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= 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26668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22860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Subtraction prop. Of e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38080" y="5105520"/>
            <a:ext cx="5257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 -   113   =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 –   113  =  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+ 113   + 1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              = $1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62485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5410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Substit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5867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dd. Prop. Of E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23480" cy="4690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14400" y="2514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X = -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86200" y="2438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 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C =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33670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Y =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3352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P = 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0" y="3352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12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4724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R + 55 = 123,  68 be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571500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 – 17 = 5,  $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280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66680" y="5029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omewor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9:44:39Z</dcterms:created>
  <dc:creator>BRSD</dc:creator>
  <dc:description/>
  <dc:language>en-US</dc:language>
  <cp:lastModifiedBy>grahams</cp:lastModifiedBy>
  <dcterms:modified xsi:type="dcterms:W3CDTF">2011-11-07T14:57:22Z</dcterms:modified>
  <cp:revision>11</cp:revision>
  <dc:subject/>
  <dc:title>Problem of the Day!!</dc:title>
</cp:coreProperties>
</file>